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95715"/>
        <c:axId val="27735137"/>
      </c:barChart>
      <c:catAx>
        <c:axId val="11295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35137"/>
        <c:crosses val="autoZero"/>
        <c:auto val="1"/>
        <c:lblAlgn val="ctr"/>
        <c:lblOffset val="100"/>
        <c:noMultiLvlLbl val="0"/>
      </c:catAx>
      <c:valAx>
        <c:axId val="27735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95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497-A8F4-43C8-97A6-2DEA9E04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A96-FE78-46DB-AC6C-94DAAA40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F8E-41C3-485C-B800-D5095BD0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931-12EE-4BBA-A378-74B88092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557-D9DC-4DBF-AF73-566E0670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1E2-B47F-44BC-99A7-F54A0B6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F68-AEDB-4B35-855A-ECB72B20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790-F5E2-433B-B617-570C7965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B30-22CE-4309-BF2E-F76149CE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86C-2002-48D8-BB8E-3D9D63A7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B11-1398-4077-A9BA-2194EEBC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D31-1FEB-4D8E-93A0-0770A906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86CF6-71A6-4912-B376-AD7BCCC586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